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F31-C4A7-43A9-A84D-E28F006B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F51-5AE1-4BF1-BE4E-11576D1D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4CC-1662-4985-A4E3-8467C78A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B9A-97E2-410F-B1F6-BD8DCE46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BA7A-93FA-4E3E-A631-BBA091D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9966-DEFE-4B42-AEAB-9173BDE9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B174-A56E-4920-B6F4-B0E1233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278-20AC-4209-A0B6-AFA63655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F277-AFBF-4526-A655-24FBE26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8853-9E37-44E7-B37C-5436D50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7EFE-E15B-4DAF-966D-7737D696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4929-F1F6-41F4-938A-2781BC3D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6D27-0447-4775-BD90-B213EB71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47AC-7D3D-4C41-B06F-5F01F9D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4D3-0EFF-418C-B73C-F414DD48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33EC-24D1-4D76-B28A-20470A3D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EF76-E9FE-4841-BAEC-64ACBF23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8886-B65E-46E4-B857-F8865730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C05E-F874-482D-9C7E-ABC5844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1D8-5C2D-4992-A407-7970BA50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BF9-8CC8-4F28-A5FC-0432E10C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7ECA-AF62-4F1A-9A83-B155E75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14D-338A-4DC2-BD6F-D5151D00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BE0-72E9-4778-9549-9A9BD72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0E0-DA6B-4C47-A95D-7287B557151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11F-7404-40EF-B5CF-5233C241B4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743200" y="1523880"/>
            <a:ext cx="4114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op Ten Nou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581280" y="4952880"/>
            <a:ext cx="27529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y: Emily Weingol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96320" y="2286000"/>
            <a:ext cx="371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#10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Par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47640" y="1905120"/>
            <a:ext cx="17658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#9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8T19:02:11Z</dcterms:created>
  <dc:creator>.</dc:creator>
  <dc:description/>
  <dc:language>en-US</dc:language>
  <cp:lastModifiedBy>.</cp:lastModifiedBy>
  <dcterms:modified xsi:type="dcterms:W3CDTF">2011-11-18T19:26:34Z</dcterms:modified>
  <cp:revision>2</cp:revision>
  <dc:subject/>
  <dc:title>Slide 1</dc:title>
</cp:coreProperties>
</file>